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4A0-0194-4FF8-B664-796A4493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7D8-271F-4FD1-8015-6D016E1C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D630-6192-42C8-9239-5B2F247F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B6F-FE90-4969-B323-41EF7858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EB9-4763-466C-974C-B834E8BB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658-F6E9-463F-8128-038D71C7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596-2D9B-489B-88AC-9C5FB11F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D9F-9363-4ADF-9CA8-71F2388B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2F0-D9D5-48E7-85EC-D078441E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615-457D-4962-8A59-B5212E18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7E1-0339-4F16-8F98-914A2965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AA2-D8D6-4BDF-BE55-FD711F55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BCE7-161B-43CD-BC70-8ECFFAF17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the market for alcohol f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00000" y="1052640"/>
            <a:ext cx="7417080" cy="5040360"/>
            <a:chOff x="900000" y="1052640"/>
            <a:chExt cx="7417080" cy="5040360"/>
          </a:xfrm>
        </p:grpSpPr>
        <p:sp>
          <p:nvSpPr>
            <p:cNvPr id="43" name=""/>
            <p:cNvSpPr/>
            <p:nvPr/>
          </p:nvSpPr>
          <p:spPr>
            <a:xfrm>
              <a:off x="900000" y="1052640"/>
              <a:ext cx="0" cy="50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0000" y="6093000"/>
              <a:ext cx="74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7956720" y="623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360" y="1125360"/>
            <a:ext cx="8280360" cy="5408640"/>
            <a:chOff x="468360" y="1125360"/>
            <a:chExt cx="8280360" cy="5408640"/>
          </a:xfrm>
        </p:grpSpPr>
        <p:sp>
          <p:nvSpPr>
            <p:cNvPr id="47" name=""/>
            <p:cNvSpPr/>
            <p:nvPr/>
          </p:nvSpPr>
          <p:spPr>
            <a:xfrm flipV="1">
              <a:off x="900000" y="1844280"/>
              <a:ext cx="612000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00000" y="1125360"/>
              <a:ext cx="6767640" cy="453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900000" y="3500280"/>
              <a:ext cx="360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00720" y="3500280"/>
              <a:ext cx="0" cy="259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284720" y="61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3357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740720" y="5516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M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093080" y="148428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903240" y="1123920"/>
            <a:ext cx="3564000" cy="2376360"/>
          </a:xfrm>
          <a:custGeom>
            <a:avLst/>
            <a:gdLst/>
            <a:ahLst/>
            <a:rect l="l" t="t" r="r" b="b"/>
            <a:pathLst>
              <a:path w="2245" h="1497">
                <a:moveTo>
                  <a:pt x="14" y="1490"/>
                </a:moveTo>
                <a:lnTo>
                  <a:pt x="2245" y="1497"/>
                </a:lnTo>
                <a:lnTo>
                  <a:pt x="0" y="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720" y="3510000"/>
            <a:ext cx="3616200" cy="2386080"/>
          </a:xfrm>
          <a:custGeom>
            <a:avLst/>
            <a:gdLst/>
            <a:ahLst/>
            <a:rect l="l" t="t" r="r" b="b"/>
            <a:pathLst>
              <a:path w="2278" h="1503">
                <a:moveTo>
                  <a:pt x="20" y="0"/>
                </a:moveTo>
                <a:lnTo>
                  <a:pt x="0" y="1503"/>
                </a:lnTo>
                <a:lnTo>
                  <a:pt x="2278" y="0"/>
                </a:lnTo>
              </a:path>
            </a:pathLst>
          </a:custGeom>
          <a:solidFill>
            <a:srgbClr val="fca2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403320" y="5643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640" y="1112760"/>
            <a:ext cx="3573360" cy="4772160"/>
          </a:xfrm>
          <a:custGeom>
            <a:avLst/>
            <a:gdLst/>
            <a:ahLst/>
            <a:rect l="l" t="t" r="r" b="b"/>
            <a:pathLst>
              <a:path w="2251" h="3006">
                <a:moveTo>
                  <a:pt x="6" y="0"/>
                </a:moveTo>
                <a:lnTo>
                  <a:pt x="0" y="3006"/>
                </a:lnTo>
                <a:lnTo>
                  <a:pt x="2251" y="1503"/>
                </a:ln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8640" y="36561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 weight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902880" y="3521160"/>
            <a:ext cx="3584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24271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87680" y="40165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19360" y="30369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2960" y="1123920"/>
            <a:ext cx="3595680" cy="3090960"/>
          </a:xfrm>
          <a:custGeom>
            <a:avLst/>
            <a:gdLst/>
            <a:ahLst/>
            <a:rect l="l" t="t" r="r" b="b"/>
            <a:pathLst>
              <a:path w="2265" h="1947">
                <a:moveTo>
                  <a:pt x="0" y="0"/>
                </a:moveTo>
                <a:lnTo>
                  <a:pt x="0" y="516"/>
                </a:lnTo>
                <a:lnTo>
                  <a:pt x="2265" y="1947"/>
                </a:lnTo>
                <a:lnTo>
                  <a:pt x="2265" y="14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9720" y="1095480"/>
            <a:ext cx="3603600" cy="4771800"/>
          </a:xfrm>
          <a:custGeom>
            <a:avLst/>
            <a:gdLst/>
            <a:ahLst/>
            <a:rect l="l" t="t" r="r" b="b"/>
            <a:pathLst>
              <a:path w="2251" h="3006">
                <a:moveTo>
                  <a:pt x="6" y="0"/>
                </a:moveTo>
                <a:lnTo>
                  <a:pt x="0" y="3006"/>
                </a:lnTo>
                <a:lnTo>
                  <a:pt x="2251" y="1503"/>
                </a:ln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1360" y="3500280"/>
            <a:ext cx="557280" cy="725760"/>
          </a:xfrm>
          <a:custGeom>
            <a:avLst/>
            <a:gdLst/>
            <a:ahLst/>
            <a:rect l="l" t="t" r="r" b="b"/>
            <a:pathLst>
              <a:path w="351" h="457">
                <a:moveTo>
                  <a:pt x="338" y="0"/>
                </a:moveTo>
                <a:lnTo>
                  <a:pt x="0" y="231"/>
                </a:lnTo>
                <a:lnTo>
                  <a:pt x="351" y="4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371480" y="3867120"/>
            <a:ext cx="192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41640" y="3867120"/>
            <a:ext cx="0" cy="221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3240" y="1944720"/>
            <a:ext cx="6043680" cy="379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895320" y="3857760"/>
            <a:ext cx="303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520" y="3686040"/>
            <a:ext cx="55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86040" y="617220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4560" y="1542960"/>
            <a:ext cx="23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 over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676240" y="1914480"/>
            <a:ext cx="514440" cy="5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43440" y="3089160"/>
            <a:ext cx="552240" cy="762120"/>
          </a:xfrm>
          <a:custGeom>
            <a:avLst/>
            <a:gdLst/>
            <a:ahLst/>
            <a:rect l="l" t="t" r="r" b="b"/>
            <a:pathLst>
              <a:path w="348" h="486">
                <a:moveTo>
                  <a:pt x="0" y="486"/>
                </a:moveTo>
                <a:lnTo>
                  <a:pt x="0" y="0"/>
                </a:lnTo>
                <a:lnTo>
                  <a:pt x="348" y="252"/>
                </a:lnTo>
                <a:lnTo>
                  <a:pt x="0" y="48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2695680"/>
            <a:ext cx="187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 of total surpluses lost by moving to Q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38280" y="3181320"/>
            <a:ext cx="210492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49560" y="3105000"/>
            <a:ext cx="561960" cy="1105200"/>
          </a:xfrm>
          <a:custGeom>
            <a:avLst/>
            <a:gdLst/>
            <a:ahLst/>
            <a:rect l="l" t="t" r="r" b="b"/>
            <a:pathLst>
              <a:path w="354" h="696">
                <a:moveTo>
                  <a:pt x="2" y="0"/>
                </a:moveTo>
                <a:lnTo>
                  <a:pt x="0" y="472"/>
                </a:lnTo>
                <a:lnTo>
                  <a:pt x="354" y="696"/>
                </a:lnTo>
                <a:lnTo>
                  <a:pt x="354" y="242"/>
                </a:lnTo>
                <a:lnTo>
                  <a:pt x="2" y="0"/>
                </a:lnTo>
                <a:close/>
              </a:path>
            </a:pathLst>
          </a:custGeom>
          <a:solidFill>
            <a:srgbClr val="17da0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10440" y="3200400"/>
            <a:ext cx="166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 of spill over removed by moving to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314960" y="3543480"/>
            <a:ext cx="283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72160" y="329580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S (CS + PS) are maximized the free market is allocatively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23600" y="3638520"/>
            <a:ext cx="40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62360" y="1379520"/>
            <a:ext cx="23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hen there is a negative externality  of consumption the market is not allocativley effici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52600" y="2625840"/>
            <a:ext cx="0" cy="18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52600" y="4456080"/>
            <a:ext cx="26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352600" y="2792160"/>
            <a:ext cx="228600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52600" y="2968560"/>
            <a:ext cx="2514600" cy="10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2600" y="2968560"/>
            <a:ext cx="1943280" cy="137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5600" y="3427560"/>
            <a:ext cx="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352240" y="3427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3240" y="3327480"/>
            <a:ext cx="1440" cy="1138320"/>
          </a:xfrm>
          <a:custGeom>
            <a:avLst/>
            <a:gdLst/>
            <a:ahLst/>
            <a:rect l="l" t="t" r="r" b="b"/>
            <a:pathLst>
              <a:path w="1" h="1792">
                <a:moveTo>
                  <a:pt x="0" y="0"/>
                </a:moveTo>
                <a:lnTo>
                  <a:pt x="0" y="179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33520" y="3589200"/>
            <a:ext cx="909720" cy="360"/>
          </a:xfrm>
          <a:custGeom>
            <a:avLst/>
            <a:gdLst/>
            <a:ahLst/>
            <a:rect l="l" t="t" r="r" b="b"/>
            <a:pathLst>
              <a:path w="1433" h="1">
                <a:moveTo>
                  <a:pt x="1433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2600" y="3311640"/>
            <a:ext cx="890640" cy="6120"/>
          </a:xfrm>
          <a:custGeom>
            <a:avLst/>
            <a:gdLst/>
            <a:ahLst/>
            <a:rect l="l" t="t" r="r" b="b"/>
            <a:pathLst>
              <a:path w="1403" h="8">
                <a:moveTo>
                  <a:pt x="1403" y="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81200" y="2451240"/>
            <a:ext cx="1828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arket For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34000" y="26798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67200" y="38228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95880" y="4165560"/>
            <a:ext cx="685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S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333520" y="2679480"/>
            <a:ext cx="20574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3800" y="43909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62400" y="43909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QF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31813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P Ta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76800" y="2451240"/>
            <a:ext cx="1143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C+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90800" y="33336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PF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90800" y="34862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PP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07200" y="4276800"/>
            <a:ext cx="1117440" cy="3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05000" y="2562120"/>
            <a:ext cx="1366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Costs/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54400" y="3457440"/>
            <a:ext cx="235080" cy="304920"/>
          </a:xfrm>
          <a:custGeom>
            <a:avLst/>
            <a:gdLst/>
            <a:ahLst/>
            <a:rect l="l" t="t" r="r" b="b"/>
            <a:pathLst>
              <a:path w="148" h="192">
                <a:moveTo>
                  <a:pt x="148" y="0"/>
                </a:moveTo>
                <a:lnTo>
                  <a:pt x="0" y="86"/>
                </a:lnTo>
                <a:lnTo>
                  <a:pt x="148" y="192"/>
                </a:lnTo>
                <a:lnTo>
                  <a:pt x="148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6520" y="3546360"/>
            <a:ext cx="8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524040" y="368604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2419200"/>
            <a:ext cx="294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 sales tax would decrease consumption to QS because the increased price consumers have to pay (P Tax) decreases the quantity demanded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10240" y="2409840"/>
            <a:ext cx="28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ice producers receive drops from PFM to PPR so firms decrease the quantity supplied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95920" y="2505240"/>
            <a:ext cx="2257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oving from QFM to QS is allocativley efficient because it eliminates the DWL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76840" y="2486160"/>
            <a:ext cx="309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rizontally equitable as consumers who consumer the most alcohol are hit hardest by the tax and are likely the consumers who cause the spill over co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05640" y="2409840"/>
            <a:ext cx="30096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policy is vertically inequitable because it makes it harder for people with low incomes to purchase alcohol because of the increase in pr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licy 2 raising the purchasing age from 18 to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43080" y="30830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3080" y="4915080"/>
            <a:ext cx="26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43080" y="3249720"/>
            <a:ext cx="2286000" cy="13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43080" y="3427560"/>
            <a:ext cx="251460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3080" y="3427560"/>
            <a:ext cx="19432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89320" y="3884760"/>
            <a:ext cx="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142720" y="3894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33720" y="4032360"/>
            <a:ext cx="4680" cy="890640"/>
          </a:xfrm>
          <a:custGeom>
            <a:avLst/>
            <a:gdLst/>
            <a:ahLst/>
            <a:rect l="l" t="t" r="r" b="b"/>
            <a:pathLst>
              <a:path w="7" h="1401">
                <a:moveTo>
                  <a:pt x="7" y="0"/>
                </a:moveTo>
                <a:lnTo>
                  <a:pt x="0" y="140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4046400"/>
            <a:ext cx="909720" cy="360"/>
          </a:xfrm>
          <a:custGeom>
            <a:avLst/>
            <a:gdLst/>
            <a:ahLst/>
            <a:rect l="l" t="t" r="r" b="b"/>
            <a:pathLst>
              <a:path w="1433" h="1">
                <a:moveTo>
                  <a:pt x="1433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71680" y="2908440"/>
            <a:ext cx="1828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arket For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9080" y="3022560"/>
            <a:ext cx="685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6600" y="3689280"/>
            <a:ext cx="251460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38600" y="4281480"/>
            <a:ext cx="685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38600" y="462456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462456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S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66800" y="38163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PF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66800" y="3930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PP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24280" y="4848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52880" y="4848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QF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95800" y="4734000"/>
            <a:ext cx="1162080" cy="3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95480" y="3019320"/>
            <a:ext cx="1257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Costs/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3911760"/>
            <a:ext cx="234720" cy="307800"/>
          </a:xfrm>
          <a:custGeom>
            <a:avLst/>
            <a:gdLst/>
            <a:ahLst/>
            <a:rect l="l" t="t" r="r" b="b"/>
            <a:pathLst>
              <a:path w="148" h="194">
                <a:moveTo>
                  <a:pt x="146" y="0"/>
                </a:moveTo>
                <a:cubicBezTo>
                  <a:pt x="99" y="29"/>
                  <a:pt x="53" y="59"/>
                  <a:pt x="6" y="88"/>
                </a:cubicBezTo>
                <a:cubicBezTo>
                  <a:pt x="4" y="89"/>
                  <a:pt x="0" y="90"/>
                  <a:pt x="0" y="90"/>
                </a:cubicBezTo>
                <a:lnTo>
                  <a:pt x="148" y="194"/>
                </a:lnTo>
                <a:lnTo>
                  <a:pt x="146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362400" y="407988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32200" y="3924360"/>
            <a:ext cx="6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48400" y="3057480"/>
            <a:ext cx="231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ption of alcohol falls, as less people in the market are able to purchase i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19600" y="3048120"/>
            <a:ext cx="2476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 fall in demand (MB curve shifts left to MB1) for alcohol will lead to XS so producers decrease the price to PP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86560" y="3247920"/>
            <a:ext cx="2238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lcohol production is now less profitable so producers decrease Quantity supplied to Q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24360" y="3200400"/>
            <a:ext cx="21528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oving from QFM to QS is allocativley efficient because it eliminates the DW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72080" y="3086280"/>
            <a:ext cx="2905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rizontally inequitable as not all 18 and 19 year olds cause the negative spillovers but all in the age group are unfairly denied the right to purchase alcoh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33920" y="3038400"/>
            <a:ext cx="325764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licy is however vertically equitable because the decease in price means that people on low incomes can spend less when buying alcoh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3:28:07Z</dcterms:created>
  <dc:creator>Patrick Lynch</dc:creator>
  <dc:description/>
  <dc:language>en-US</dc:language>
  <cp:lastModifiedBy> Paddy Lynch</cp:lastModifiedBy>
  <dcterms:modified xsi:type="dcterms:W3CDTF">2010-11-08T08:41:25Z</dcterms:modified>
  <cp:revision>33</cp:revision>
  <dc:subject/>
  <dc:title>Slide 1</dc:title>
</cp:coreProperties>
</file>